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0868-508A-4D55-A128-C526FB628B5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7 Environmen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ypes of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Y7 Environmental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oject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EL 2007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need to mo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N E R G 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we get this energy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O O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QUESTION?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do we need to move?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 N E R G 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ere do we get this energy from?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 O O D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happen witho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act 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ould happen without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 fact ….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OTHING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&amp; 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INETIC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LECTRICAL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UND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EAT &amp; LIGHT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NERGY IN ACTION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RE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IN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ORED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RAVITATIONAL POTENTIAL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HEMICAL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RAIN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UCLEAR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E9D0-76E1-4F39-8284-4C924AA2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B3FA-5BD0-47C1-94C9-CB1590E7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5318-E39C-4F5F-8889-DBAA7282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F4A7-D70F-4798-85C1-82853D79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F095-F7A1-48CC-8AE9-EC83E5FF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D856-21AE-4D11-AB67-27D47CAA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4A2E-4938-4453-B959-0560D456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5939-4273-401C-B1FF-94A3C437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6D83-48A6-4C98-8C7D-CDEF93FF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E88C-7D7D-4059-B25A-56FF5A2E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DD46-9953-4CEC-A86B-FAC3FFDD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30F7-CE76-4257-AE6A-5511F8F2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9208-27D8-40BA-9476-146B2645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F30B-2337-417D-95E0-129A97FD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73A3-2148-4F3D-ACE4-E666D838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1E40-4437-42B4-BEB7-EFC65CE3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D55E-7B6F-4724-9B8D-B49AE488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B7A9A-0D26-4A0E-89F7-6DA10253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FF312-5810-40A2-A0A6-57E5623D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BC100-B4FA-4B42-8D3A-5C7A05DE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DD2EF-177A-4FDE-9523-970B2A8E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75A91-1F13-418D-8BA9-080CC2CE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8843-38AA-44B6-803E-C5A72305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87CC2-CC5B-4981-8DED-E0CC8FB3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67659-C2DC-4275-862B-BF093B74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2FB18-AFC9-4DA1-9997-BB242574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1467C-BF03-4433-BAE5-34B7BB23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338CF-D27E-45AF-BF61-B75C6425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98D8E-2905-4B9A-B08E-CE6F0995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EC007-D60E-4869-A1D7-9759D19A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9F56-E6D4-46DC-BA3B-6F7A164C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9E25-6E19-4DDE-B74D-27F7242A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D90A-051A-4B9A-8709-44EE1AD8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E85D-78D7-4898-82CA-D67E48FB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2932-F068-49E7-BB46-04D04AFF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D566-AD70-46F6-BD9E-87018BF2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D1E1-85EC-47B3-9680-2F82311C8FFB}" type="slidenum"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D6B5-6217-4386-84D6-08DCB2A67B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3573-5E8F-4241-9A1A-09C13E72D53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Black"/>
              </a:rPr>
              <a:t>Types of Energy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7 Environment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rojec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GEL 2007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0" name="Picture 5" descr="fireworks_1"/>
          <p:cNvPicPr/>
          <p:nvPr/>
        </p:nvPicPr>
        <p:blipFill>
          <a:blip r:embed="rId1"/>
          <a:stretch/>
        </p:blipFill>
        <p:spPr>
          <a:xfrm>
            <a:off x="8101080" y="581508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fireworks_1"/>
          <p:cNvPicPr/>
          <p:nvPr/>
        </p:nvPicPr>
        <p:blipFill>
          <a:blip r:embed="rId2"/>
          <a:stretch/>
        </p:blipFill>
        <p:spPr>
          <a:xfrm>
            <a:off x="468360" y="0"/>
            <a:ext cx="1817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5"/>
          <p:cNvSpPr/>
          <p:nvPr/>
        </p:nvSpPr>
        <p:spPr>
          <a:xfrm>
            <a:off x="539640" y="2492280"/>
            <a:ext cx="2016360" cy="158436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Black"/>
              </a:rPr>
              <a:t>QUESTION?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84582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What do we need to move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1384200" cy="117468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6"/>
          <p:cNvSpPr/>
          <p:nvPr/>
        </p:nvSpPr>
        <p:spPr>
          <a:xfrm>
            <a:off x="3132000" y="2708280"/>
            <a:ext cx="60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99"/>
                </a:solidFill>
                <a:latin typeface="Ravie"/>
              </a:rPr>
              <a:t>E N E R G Y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7" name="Picture 7" descr=""/>
          <p:cNvPicPr/>
          <p:nvPr/>
        </p:nvPicPr>
        <p:blipFill>
          <a:blip r:embed="rId2"/>
          <a:stretch/>
        </p:blipFill>
        <p:spPr>
          <a:xfrm>
            <a:off x="6907320" y="3429000"/>
            <a:ext cx="2236680" cy="309564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8"/>
          <p:cNvSpPr/>
          <p:nvPr/>
        </p:nvSpPr>
        <p:spPr>
          <a:xfrm>
            <a:off x="0" y="429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Where do we get this energy from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324000" y="5445000"/>
            <a:ext cx="67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99"/>
                </a:solidFill>
                <a:latin typeface="Ravie"/>
              </a:rPr>
              <a:t>        </a:t>
            </a:r>
            <a:r>
              <a:rPr b="0" lang="en-GB" sz="6000" spc="-1" strike="noStrike">
                <a:solidFill>
                  <a:srgbClr val="ff3399"/>
                </a:solidFill>
                <a:latin typeface="Ravie"/>
              </a:rPr>
              <a:t>F O O D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4.44444E-006 L -0.01267 -0.00162 E">
                                      <p:cBhvr>
                                        <p:cTn id="57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4"/>
          <p:cNvSpPr/>
          <p:nvPr/>
        </p:nvSpPr>
        <p:spPr>
          <a:xfrm>
            <a:off x="2050920" y="1989000"/>
            <a:ext cx="47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4800" spc="-1" strike="noStrike">
                <a:solidFill>
                  <a:srgbClr val="ffcc00"/>
                </a:solidFill>
                <a:latin typeface="Wide Latin"/>
              </a:rPr>
              <a:t>would happen without</a:t>
            </a:r>
            <a:r>
              <a:rPr b="0" lang="en-GB" sz="1800" spc="-1" strike="noStrike">
                <a:solidFill>
                  <a:srgbClr val="ffcc00"/>
                </a:solidFill>
                <a:latin typeface="That Darn Cat!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0" y="0"/>
            <a:ext cx="6227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LHF Action Movie"/>
              </a:rPr>
              <a:t>In fact …..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LHF Action Movie"/>
              </a:rPr>
              <a:t>                 </a:t>
            </a:r>
            <a:r>
              <a:rPr b="0" lang="en-GB" sz="4800" spc="-1" strike="noStrike">
                <a:solidFill>
                  <a:srgbClr val="ffffff"/>
                </a:solidFill>
                <a:latin typeface="LHF Action Movie"/>
              </a:rPr>
              <a:t>NOTHING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2519280" y="472428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MidnightSnack BB"/>
              </a:rPr>
              <a:t>ENERGY</a:t>
            </a:r>
            <a:endParaRPr b="0" lang="en-US" sz="9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3" name="j009727.wav" descr=""/>
          <p:cNvPicPr/>
          <p:nvPr/>
        </p:nvPicPr>
        <p:blipFill>
          <a:blip r:embed="rId1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2132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Line 5"/>
          <p:cNvSpPr/>
          <p:nvPr/>
        </p:nvSpPr>
        <p:spPr>
          <a:xfrm flipV="1">
            <a:off x="0" y="3357720"/>
            <a:ext cx="9539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468360" y="2708280"/>
            <a:ext cx="396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KINETIC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4716360" y="2781360"/>
            <a:ext cx="442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ELECTRICAL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250920" y="6308640"/>
            <a:ext cx="442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SOUND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4643280" y="6308640"/>
            <a:ext cx="475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HEAT &amp; LIGHT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0" name="Picture 10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2449440" cy="17208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5940360" y="476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2" descr=""/>
          <p:cNvPicPr/>
          <p:nvPr/>
        </p:nvPicPr>
        <p:blipFill>
          <a:blip r:embed="rId3"/>
          <a:stretch/>
        </p:blipFill>
        <p:spPr>
          <a:xfrm>
            <a:off x="1403280" y="3860640"/>
            <a:ext cx="1833480" cy="1833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3" descr=""/>
          <p:cNvPicPr/>
          <p:nvPr/>
        </p:nvPicPr>
        <p:blipFill>
          <a:blip r:embed="rId4"/>
          <a:stretch/>
        </p:blipFill>
        <p:spPr>
          <a:xfrm>
            <a:off x="6156360" y="3860640"/>
            <a:ext cx="1422360" cy="195120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14"/>
          <p:cNvSpPr/>
          <p:nvPr/>
        </p:nvSpPr>
        <p:spPr>
          <a:xfrm>
            <a:off x="0" y="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ENERGY IN ACTION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6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0" y="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STORED ENERG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0" y="2421000"/>
            <a:ext cx="450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GRAVITATIONAL POTENTIAL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4572000" y="29242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CHEMICAL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324000" y="6308640"/>
            <a:ext cx="39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STRAIN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4788000" y="6308640"/>
            <a:ext cx="40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NUCLEAR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2" name="Picture 12" descr="colony"/>
          <p:cNvPicPr/>
          <p:nvPr/>
        </p:nvPicPr>
        <p:blipFill>
          <a:blip r:embed="rId1"/>
          <a:stretch/>
        </p:blipFill>
        <p:spPr>
          <a:xfrm>
            <a:off x="755640" y="620640"/>
            <a:ext cx="2951280" cy="16732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3" descr=""/>
          <p:cNvPicPr/>
          <p:nvPr/>
        </p:nvPicPr>
        <p:blipFill>
          <a:blip r:embed="rId2"/>
          <a:stretch/>
        </p:blipFill>
        <p:spPr>
          <a:xfrm>
            <a:off x="5508720" y="620640"/>
            <a:ext cx="2663640" cy="19130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4" descr=""/>
          <p:cNvPicPr/>
          <p:nvPr/>
        </p:nvPicPr>
        <p:blipFill>
          <a:blip r:embed="rId3"/>
          <a:stretch/>
        </p:blipFill>
        <p:spPr>
          <a:xfrm>
            <a:off x="1187280" y="3933720"/>
            <a:ext cx="2160720" cy="19893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5" descr=""/>
          <p:cNvPicPr/>
          <p:nvPr/>
        </p:nvPicPr>
        <p:blipFill>
          <a:blip r:embed="rId4"/>
          <a:stretch/>
        </p:blipFill>
        <p:spPr>
          <a:xfrm>
            <a:off x="5796000" y="364500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4:27:11Z</dcterms:created>
  <dc:creator>gelms</dc:creator>
  <dc:description/>
  <dc:language>en-US</dc:language>
  <cp:lastModifiedBy>RomaK</cp:lastModifiedBy>
  <dcterms:modified xsi:type="dcterms:W3CDTF">2015-09-03T12:38:47Z</dcterms:modified>
  <cp:revision>11</cp:revision>
  <dc:subject/>
  <dc:title>Types of Energy</dc:title>
</cp:coreProperties>
</file>